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4.png" ContentType="image/png"/>
  <Override PartName="/ppt/media/image12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869-C3BE-4DC6-BB45-CACB37F4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4EEC-E929-441C-A747-036A0CB0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9CC-D305-4DC5-B92A-8340D0E2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F11-0A08-48AB-AC7D-A109950F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3B0C-A205-4B78-BC6A-4A2088C6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1A4A-323B-4C9D-8A7D-4817C102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29B3-E39C-41EB-BBD6-723253E6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E3A6-3135-4995-A3E3-77092822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7283-2E16-4256-BE34-D07972CB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3E0A-2434-4AA5-862A-68E6E9A9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780F-630D-49C3-9AEA-7E92A95C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53B-F77B-4CEC-A1E0-3083D7A5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384E-9FBE-4B16-9995-A73F5FB9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EA29-DA1F-4734-8632-9D80F60E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0858-4C4E-4956-BCBF-BF4D7C37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A7EF-CB01-40DC-9E6A-3D08AD49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6408-B165-4D2A-9582-50FD00ED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A0C-92CC-4438-BF2D-F1E71002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E4D3-FB8E-44C9-B3C4-BE232F89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C90-83BF-4CDB-9735-72A10FC0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FF3-4DF6-45CE-A3EA-483F2F68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1E33-A079-49A4-B5F4-D22814C5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1851-ED52-4ED2-A906-8617C2DE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2CB-F577-47C8-81DA-1313B8A1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5371-6B79-43D5-9E5A-1FA4208A8F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A3AA-A370-4C9B-8F01-5336C352EC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352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ауком: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томија коморног угла, физиологија и патологија настанка глаукома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на дијагностика и сaвреме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600" y="434340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 Сунчица Срећ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Blagojevic_Vladanka_19360228_9915"/>
          <p:cNvPicPr/>
          <p:nvPr/>
        </p:nvPicPr>
        <p:blipFill>
          <a:blip r:embed="rId1"/>
          <a:srcRect l="14446" t="42205" r="55559" b="15171"/>
          <a:stretch/>
        </p:blipFill>
        <p:spPr>
          <a:xfrm>
            <a:off x="6477120" y="3733920"/>
            <a:ext cx="2346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5867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на ошт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микроско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ење И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глед папиле видног жив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глед видног по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thumbnail"/>
          <p:cNvPicPr/>
          <p:nvPr/>
        </p:nvPicPr>
        <p:blipFill>
          <a:blip r:embed="rId1"/>
          <a:srcRect l="0" t="0" r="30675" b="0"/>
          <a:stretch/>
        </p:blipFill>
        <p:spPr>
          <a:xfrm>
            <a:off x="5486400" y="1392120"/>
            <a:ext cx="3124080" cy="2494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800px-Slit_lamp"/>
          <p:cNvPicPr/>
          <p:nvPr/>
        </p:nvPicPr>
        <p:blipFill>
          <a:blip r:embed="rId2"/>
          <a:stretch/>
        </p:blipFill>
        <p:spPr>
          <a:xfrm>
            <a:off x="5486400" y="39625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Мерење ИОП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2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гитално-само оријентацио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планациона тономет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контактном тонометр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мпресионом тонометр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планациона тонометр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55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латни стандар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ерење ИОП се заснива на мерењу силе која је потребна да се изврши апланација одрђене површине рожњаче (3.06 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мерењу треба узети у обзир и дебљину рожњаче (пахиметрија); нормална дебљина је 5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±30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блем дезинфекција и баждарење а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thumbnail"/>
          <p:cNvPicPr/>
          <p:nvPr/>
        </p:nvPicPr>
        <p:blipFill>
          <a:blip r:embed="rId1"/>
          <a:stretch/>
        </p:blipFill>
        <p:spPr>
          <a:xfrm>
            <a:off x="6934320" y="2209680"/>
            <a:ext cx="1890720" cy="3886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pplanationmirespressure"/>
          <p:cNvPicPr/>
          <p:nvPr/>
        </p:nvPicPr>
        <p:blipFill>
          <a:blip r:embed="rId2"/>
          <a:srcRect l="22167" t="13790" r="5419" b="7389"/>
          <a:stretch/>
        </p:blipFill>
        <p:spPr>
          <a:xfrm>
            <a:off x="6934320" y="609480"/>
            <a:ext cx="1904760" cy="14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Неконтактна тонометр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324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а апланационе тонометрије код које се апланација одређене површине рожњаче врши ваздушним сноп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ОП зависи од употребљене си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бедна али мање ефика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thumbnail"/>
          <p:cNvPicPr/>
          <p:nvPr/>
        </p:nvPicPr>
        <p:blipFill>
          <a:blip r:embed="rId1"/>
          <a:stretch/>
        </p:blipFill>
        <p:spPr>
          <a:xfrm>
            <a:off x="6324480" y="1295280"/>
            <a:ext cx="2514600" cy="20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мпресиона тонометр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248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сина ИОП се одређује на основу величине улегнућа-деформације рожњаче под дејством константне си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otzov тономет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thumbnail"/>
          <p:cNvPicPr/>
          <p:nvPr/>
        </p:nvPicPr>
        <p:blipFill>
          <a:blip r:embed="rId1"/>
          <a:stretch/>
        </p:blipFill>
        <p:spPr>
          <a:xfrm>
            <a:off x="6168960" y="3581280"/>
            <a:ext cx="1898640" cy="3048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humbnail"/>
          <p:cNvPicPr/>
          <p:nvPr/>
        </p:nvPicPr>
        <p:blipFill>
          <a:blip r:embed="rId2"/>
          <a:stretch/>
        </p:blipFill>
        <p:spPr>
          <a:xfrm>
            <a:off x="1676520" y="4267080"/>
            <a:ext cx="28573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редности ИОП треба критично разматрат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30% глаукомних болесника има нормалне вредности И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% особа старијих од 40 година има повећан ИОП, али само 1-2% има глау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еглед папиле видног живц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фталмоско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ређујемо величину централног удубљења (екскавације) у односу на дијаметар папиле E/D, изражава се децималним броје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Ширина неуроретиналног об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уство перипапиларне атроф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иметрија налаза између десног и левог 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уство крварења на папили и перипапиларно-бржа прогрес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Blagojevic_Vladanka_19360228_9915"/>
          <p:cNvPicPr/>
          <p:nvPr/>
        </p:nvPicPr>
        <p:blipFill>
          <a:blip r:embed="rId1"/>
          <a:srcRect l="14446" t="42205" r="55559" b="15171"/>
          <a:stretch/>
        </p:blipFill>
        <p:spPr>
          <a:xfrm>
            <a:off x="6531120" y="1905120"/>
            <a:ext cx="26128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аћење ПНО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тографис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Image Detail"/>
          <p:cNvPicPr/>
          <p:nvPr/>
        </p:nvPicPr>
        <p:blipFill>
          <a:blip r:embed="rId1"/>
          <a:stretch/>
        </p:blipFill>
        <p:spPr>
          <a:xfrm>
            <a:off x="4495680" y="1600200"/>
            <a:ext cx="3848400" cy="1758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thumbnail"/>
          <p:cNvPicPr/>
          <p:nvPr/>
        </p:nvPicPr>
        <p:blipFill>
          <a:blip r:embed="rId2"/>
          <a:stretch/>
        </p:blipFill>
        <p:spPr>
          <a:xfrm>
            <a:off x="4419720" y="3581280"/>
            <a:ext cx="36194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омене у видном пољ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5105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утоматска-компјутеризована перимет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исти посебне софтверске програме којима методом статичке периметрије испитује најугоженије делове видног поља (30 º) и на основу упоређивања са налазима код здравих особа добија се степен оштећења у виду деф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Image Detail"/>
          <p:cNvPicPr/>
          <p:nvPr/>
        </p:nvPicPr>
        <p:blipFill>
          <a:blip r:embed="rId1"/>
          <a:stretch/>
        </p:blipFill>
        <p:spPr>
          <a:xfrm>
            <a:off x="5562720" y="1447920"/>
            <a:ext cx="336204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ефекти у видном пољу су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јпре релативни па затим апсолутни ското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во проширење слепе мрље, горњи затим доњи лучни скотом који обилази фиксациону тачку (Бјерумов скот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итак централног в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порално острво у видном пољ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епи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лаук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ставља групу обољења етиолошки веома различитих, која се карактеришу оштећењем видног живца и испадима у видном пољ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ог је виши ИОП него што васкуларни систем ПНО може да подне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авља се у свим животним доб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ерминални стадијум глауко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plj1"/>
          <p:cNvPicPr/>
          <p:nvPr/>
        </p:nvPicPr>
        <p:blipFill>
          <a:blip r:embed="rId1"/>
          <a:srcRect l="12195" t="3337" r="6987" b="13336"/>
          <a:stretch/>
        </p:blipFill>
        <p:spPr>
          <a:xfrm>
            <a:off x="685800" y="1676520"/>
            <a:ext cx="3301920" cy="4530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Image Detail"/>
          <p:cNvPicPr/>
          <p:nvPr/>
        </p:nvPicPr>
        <p:blipFill>
          <a:blip r:embed="rId2"/>
          <a:stretch/>
        </p:blipFill>
        <p:spPr>
          <a:xfrm>
            <a:off x="4038480" y="1828800"/>
            <a:ext cx="42292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реглед коморног угла-гониоскоп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ормална ширина коморног угла ј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40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thumbnail"/>
          <p:cNvPicPr/>
          <p:nvPr/>
        </p:nvPicPr>
        <p:blipFill>
          <a:blip r:embed="rId1"/>
          <a:stretch/>
        </p:blipFill>
        <p:spPr>
          <a:xfrm>
            <a:off x="5715000" y="41148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thumbnail"/>
          <p:cNvPicPr/>
          <p:nvPr/>
        </p:nvPicPr>
        <p:blipFill>
          <a:blip r:embed="rId2"/>
          <a:stretch/>
        </p:blipFill>
        <p:spPr>
          <a:xfrm>
            <a:off x="5562720" y="1295280"/>
            <a:ext cx="2476440" cy="2476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thumbnail"/>
          <p:cNvPicPr/>
          <p:nvPr/>
        </p:nvPicPr>
        <p:blipFill>
          <a:blip r:embed="rId3"/>
          <a:stretch/>
        </p:blipFill>
        <p:spPr>
          <a:xfrm>
            <a:off x="1066680" y="2844720"/>
            <a:ext cx="3429000" cy="30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имарни глауком отвореног угл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Глауком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твореног угла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је хронична оптичка неуропатија које се карактерише повећан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ОП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екскавацијом папиле и парацентралним скотомима у видном пољ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раст отпора у трабекуларном сист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laucoma sine ten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cular hyperte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Фактори ризи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32880" y="1295280"/>
            <a:ext cx="773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већан И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тарија животна д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зитивна породична анам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а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кскавација папиле већа од 0,5 или асиметрија нал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Централна корнеална дебљ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CCT) мања од 5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Разматрати: висока миопија, системски фактори, пол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0000"/>
                </a:solidFill>
                <a:latin typeface="Arial"/>
              </a:rPr>
              <a:t>Системски фактори ризик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490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ардиова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ларне болести, вазоспа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Ендокрин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еуродегенеративне боле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lzheimer-ova,Parkinsonova bol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ремећаји сн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 apn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96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симптоматска болест до појаве дефеката у видном пољ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начај мерења ИОП, 24-дневне кри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ниоскопија показује нормалан на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орни угао је отворен наормалне ширине и пигм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ера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ење И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бољшање циркулације П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уропротекц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066680" y="3581280"/>
            <a:ext cx="56390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жење ИОП 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mmHg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нижава прогресију з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ера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дикамент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терапија:холинергиц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пилокарпин 1%, 2%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енергички агонисти 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агонист-бримонидин 0,2%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инхибитори угљене анхидразе (дорзоламид, бринзоламид), аналози простагландин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локато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тимоло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5%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сер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шка тера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Антиглаукомни леков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иперосмотски лек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пстанце са малом молекуларном тежном које слабо пролазе хематоокуларну баријеру, повећавају осмоларност серума и осмотски градијент што доводи до повлачења воде из очне водице и стакластог 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пацитет снижења ИОП је 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а индикација је акутни глау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ицерол 1-1,5 g/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нитол 2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slt alt"/>
          <p:cNvPicPr/>
          <p:nvPr/>
        </p:nvPicPr>
        <p:blipFill>
          <a:blip r:embed="rId1"/>
          <a:stretch/>
        </p:blipFill>
        <p:spPr>
          <a:xfrm>
            <a:off x="533520" y="1447920"/>
            <a:ext cx="3600360" cy="156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selecta_photo2"/>
          <p:cNvPicPr/>
          <p:nvPr/>
        </p:nvPicPr>
        <p:blipFill>
          <a:blip r:embed="rId2"/>
          <a:stretch/>
        </p:blipFill>
        <p:spPr>
          <a:xfrm>
            <a:off x="755640" y="3860640"/>
            <a:ext cx="2808360" cy="2095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electa_photo1"/>
          <p:cNvPicPr/>
          <p:nvPr/>
        </p:nvPicPr>
        <p:blipFill>
          <a:blip r:embed="rId3"/>
          <a:stretch/>
        </p:blipFill>
        <p:spPr>
          <a:xfrm>
            <a:off x="5638680" y="4114800"/>
            <a:ext cx="2592360" cy="1922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80880" y="31240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Поређење величине печата лево АЛТ, десно СЛ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619280" y="5950080"/>
            <a:ext cx="597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Изглед трабекуларне мреже након АЛТ лево  и СЛТ десно направљен </a:t>
            </a:r>
            <a:r>
              <a:rPr b="1" lang="sr-Latn-C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ЕМ( Glaucoma today </a:t>
            </a:r>
            <a:r>
              <a:rPr b="1" lang="sr-Latn-CS" sz="16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ul</a:t>
            </a:r>
            <a:r>
              <a:rPr b="1" lang="sr-Latn-CS" sz="1600" spc="-1" strike="noStrike">
                <a:solidFill>
                  <a:srgbClr val="000000"/>
                </a:solidFill>
                <a:latin typeface="Tahoma"/>
              </a:rPr>
              <a:t>y/August 2005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slt-3"/>
          <p:cNvPicPr/>
          <p:nvPr/>
        </p:nvPicPr>
        <p:blipFill>
          <a:blip r:embed="rId4"/>
          <a:stretch/>
        </p:blipFill>
        <p:spPr>
          <a:xfrm>
            <a:off x="4356000" y="476280"/>
            <a:ext cx="4248360" cy="2451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4876920" y="3200400"/>
            <a:ext cx="30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</a:rPr>
              <a:t>Место апликације печата </a:t>
            </a:r>
            <a:r>
              <a:rPr b="1" lang="sr-Latn-CS" sz="1600" spc="-1" strike="noStrike">
                <a:solidFill>
                  <a:srgbClr val="000000"/>
                </a:solidFill>
                <a:latin typeface="Tahoma"/>
              </a:rPr>
              <a:t>( Review Ophthalmology, 2005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533520" y="4572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ЛТ/СЛ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Глауком је масовна незаразна болест са преваленцом 1% до 2% свих особа старијих од 40 год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огресивног је карактера, са често веома неповољним током тако да према свим релевантним статистикама спада у три најчешћа узрока слепила у свету и код нас (10-15 %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осле катаракте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вентабилно слепило)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руги је најчешћи узрок слепила  у с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лтрационе операције без и са употребом антиметаболита (MMC,5-F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радња дренажних импл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клодеструктивне процед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thumbnail"/>
          <p:cNvPicPr/>
          <p:nvPr/>
        </p:nvPicPr>
        <p:blipFill>
          <a:blip r:embed="rId1"/>
          <a:stretch/>
        </p:blipFill>
        <p:spPr>
          <a:xfrm>
            <a:off x="7010280" y="2971800"/>
            <a:ext cx="1886040" cy="1514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thumbnail"/>
          <p:cNvPicPr/>
          <p:nvPr/>
        </p:nvPicPr>
        <p:blipFill>
          <a:blip r:embed="rId2"/>
          <a:stretch/>
        </p:blipFill>
        <p:spPr>
          <a:xfrm>
            <a:off x="762120" y="4800600"/>
            <a:ext cx="2514600" cy="189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Image Detail"/>
          <p:cNvPicPr/>
          <p:nvPr/>
        </p:nvPicPr>
        <p:blipFill>
          <a:blip r:embed="rId3"/>
          <a:stretch/>
        </p:blipFill>
        <p:spPr>
          <a:xfrm>
            <a:off x="6477120" y="4724280"/>
            <a:ext cx="2381040" cy="1791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thumbnail"/>
          <p:cNvPicPr/>
          <p:nvPr/>
        </p:nvPicPr>
        <p:blipFill>
          <a:blip r:embed="rId4"/>
          <a:stretch/>
        </p:blipFill>
        <p:spPr>
          <a:xfrm>
            <a:off x="3581280" y="44956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римарни глауком затвореног угл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таје као последица налегања и затврања коморног угла кореним делом дуж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гло скок И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а сликом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акутног глау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када затварање коморног угла настаје постепено, са настајањем сраслина (гониосинехија) у коморном углу када говоримо о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хроничном ангуларном глау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нтермитентни глауко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кога имамо повремено затварање и отварање коморног угла  и који прелази у један од напред наведених типова глаук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атогенез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ребна је анатомска предиспозиц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ан коморни уга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итка предња ком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лико сочи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сока хиперметро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равак у мраку, стрес, ширење зенице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thumbnail"/>
          <p:cNvPicPr/>
          <p:nvPr/>
        </p:nvPicPr>
        <p:blipFill>
          <a:blip r:embed="rId1"/>
          <a:srcRect l="0" t="0" r="0" b="43867"/>
          <a:stretch/>
        </p:blipFill>
        <p:spPr>
          <a:xfrm>
            <a:off x="6172200" y="4191120"/>
            <a:ext cx="2819520" cy="1962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thumbnail"/>
          <p:cNvPicPr/>
          <p:nvPr/>
        </p:nvPicPr>
        <p:blipFill>
          <a:blip r:embed="rId2"/>
          <a:srcRect l="0" t="0" r="0" b="12006"/>
          <a:stretch/>
        </p:blipFill>
        <p:spPr>
          <a:xfrm>
            <a:off x="6172200" y="1600200"/>
            <a:ext cx="28004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кутног глауко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ненадни јако бол у једном оку и половини гл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магљење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алои око извора светл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ОП може имати јако високе вредности преко 60 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стојна хиперемија вежњаче, смањена провидност и осетљивос рожњаче, плитка предња комора и широка з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ок коморног у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напада:атрофичне зоне дужице, замућења сочива испод предње капс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линичка слика акутног глауко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thumbnail"/>
          <p:cNvPicPr/>
          <p:nvPr/>
        </p:nvPicPr>
        <p:blipFill>
          <a:blip r:embed="rId1"/>
          <a:stretch/>
        </p:blipFill>
        <p:spPr>
          <a:xfrm>
            <a:off x="4419720" y="1752480"/>
            <a:ext cx="2971800" cy="2257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thumbnail"/>
          <p:cNvPicPr/>
          <p:nvPr/>
        </p:nvPicPr>
        <p:blipFill>
          <a:blip r:embed="rId2"/>
          <a:srcRect l="0" t="0" r="0" b="13109"/>
          <a:stretch/>
        </p:blipFill>
        <p:spPr>
          <a:xfrm>
            <a:off x="4419720" y="4267080"/>
            <a:ext cx="2857320" cy="2210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thumbnail"/>
          <p:cNvPicPr/>
          <p:nvPr/>
        </p:nvPicPr>
        <p:blipFill>
          <a:blip r:embed="rId3"/>
          <a:stretch/>
        </p:blipFill>
        <p:spPr>
          <a:xfrm>
            <a:off x="380880" y="2286000"/>
            <a:ext cx="3657600" cy="29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линичка слика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хроничног ангуларног глауко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3886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ремени бол у 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ОП преко 30 mm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штећење П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ниосинех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thumbnail"/>
          <p:cNvPicPr/>
          <p:nvPr/>
        </p:nvPicPr>
        <p:blipFill>
          <a:blip r:embed="rId1"/>
          <a:srcRect l="13120" t="10866" r="19674" b="0"/>
          <a:stretch/>
        </p:blipFill>
        <p:spPr>
          <a:xfrm>
            <a:off x="4952880" y="1523880"/>
            <a:ext cx="2743200" cy="274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thumbnail"/>
          <p:cNvPicPr/>
          <p:nvPr/>
        </p:nvPicPr>
        <p:blipFill>
          <a:blip r:embed="rId2"/>
          <a:stretch/>
        </p:blipFill>
        <p:spPr>
          <a:xfrm>
            <a:off x="5105520" y="4527720"/>
            <a:ext cx="2342880" cy="23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Лечење ангуларног глауко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ижење И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лањање ангуларног б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клањање пупиларног бл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v. Manitol 20%, tbl Acetazolamid 4x250 mg, локално антиглаукомне ка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Лечење ангуларног глауко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thumbnail"/>
          <p:cNvPicPr/>
          <p:nvPr/>
        </p:nvPicPr>
        <p:blipFill>
          <a:blip r:embed="rId1"/>
          <a:stretch/>
        </p:blipFill>
        <p:spPr>
          <a:xfrm>
            <a:off x="762120" y="1752480"/>
            <a:ext cx="2324160" cy="4648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thumbnail"/>
          <p:cNvPicPr/>
          <p:nvPr/>
        </p:nvPicPr>
        <p:blipFill>
          <a:blip r:embed="rId2"/>
          <a:stretch/>
        </p:blipFill>
        <p:spPr>
          <a:xfrm>
            <a:off x="3276720" y="1752480"/>
            <a:ext cx="2851200" cy="4724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9"/>
          <p:cNvSpPr/>
          <p:nvPr/>
        </p:nvSpPr>
        <p:spPr>
          <a:xfrm>
            <a:off x="6400800" y="1905120"/>
            <a:ext cx="228600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G laser iridot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1" descr="thumbnail"/>
          <p:cNvPicPr/>
          <p:nvPr/>
        </p:nvPicPr>
        <p:blipFill>
          <a:blip r:embed="rId3"/>
          <a:stretch/>
        </p:blipFill>
        <p:spPr>
          <a:xfrm>
            <a:off x="6095880" y="3809880"/>
            <a:ext cx="285768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Хиру</a:t>
            </a:r>
            <a:r>
              <a:rPr b="0" lang="sr-CS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шко лечење ангуларног глауко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бекулектомија са или без употребе антиметаболита MMC или 5-F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thumbnail"/>
          <p:cNvPicPr/>
          <p:nvPr/>
        </p:nvPicPr>
        <p:blipFill>
          <a:blip r:embed="rId1"/>
          <a:srcRect l="0" t="0" r="0" b="13049"/>
          <a:stretch/>
        </p:blipFill>
        <p:spPr>
          <a:xfrm>
            <a:off x="5257800" y="4114800"/>
            <a:ext cx="2857680" cy="228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thumbnail"/>
          <p:cNvPicPr/>
          <p:nvPr/>
        </p:nvPicPr>
        <p:blipFill>
          <a:blip r:embed="rId2"/>
          <a:stretch/>
        </p:blipFill>
        <p:spPr>
          <a:xfrm>
            <a:off x="5257800" y="1828800"/>
            <a:ext cx="254304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екундарни глаук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аје као последица неког другог очног обољ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ђи су од примарн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чење слично лечењу примарних глаук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28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ултифакторијална бол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етска осн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ногобројни фактори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гресивно пропадање ретиналних ганглијских ћел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сона нервних ћел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лаукомске оптичке неуропат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штећења В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3924360" y="2781360"/>
            <a:ext cx="5968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767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3924360" y="5229360"/>
            <a:ext cx="5968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767ff"/>
          </a:solidFill>
          <a:ln w="9360">
            <a:solidFill>
              <a:srgbClr val="676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ајчешће форме секундарних глауком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азван променама на сочи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о последица уве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о последица тумора 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о последица повреде 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сеудоексфолијативни глау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гментни глау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васкуларни глау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ртикостероидни глау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Глауком изаван променама у сочив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thumbnail"/>
          <p:cNvPicPr/>
          <p:nvPr/>
        </p:nvPicPr>
        <p:blipFill>
          <a:blip r:embed="rId1"/>
          <a:stretch/>
        </p:blipFill>
        <p:spPr>
          <a:xfrm>
            <a:off x="685800" y="167652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thumbnail"/>
          <p:cNvPicPr/>
          <p:nvPr/>
        </p:nvPicPr>
        <p:blipFill>
          <a:blip r:embed="rId2"/>
          <a:stretch/>
        </p:blipFill>
        <p:spPr>
          <a:xfrm>
            <a:off x="685800" y="411480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thumbnail"/>
          <p:cNvPicPr/>
          <p:nvPr/>
        </p:nvPicPr>
        <p:blipFill>
          <a:blip r:embed="rId3"/>
          <a:stretch/>
        </p:blipFill>
        <p:spPr>
          <a:xfrm>
            <a:off x="4952880" y="144792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Image Detail"/>
          <p:cNvPicPr/>
          <p:nvPr/>
        </p:nvPicPr>
        <p:blipFill>
          <a:blip r:embed="rId4"/>
          <a:stretch/>
        </p:blipFill>
        <p:spPr>
          <a:xfrm>
            <a:off x="5029200" y="38671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1371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ве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thumbnail"/>
          <p:cNvPicPr/>
          <p:nvPr/>
        </p:nvPicPr>
        <p:blipFill>
          <a:blip r:embed="rId1"/>
          <a:srcRect l="0" t="0" r="14781" b="0"/>
          <a:stretch/>
        </p:blipFill>
        <p:spPr>
          <a:xfrm>
            <a:off x="304920" y="1066680"/>
            <a:ext cx="2646360" cy="3200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thumbnail"/>
          <p:cNvPicPr/>
          <p:nvPr/>
        </p:nvPicPr>
        <p:blipFill>
          <a:blip r:embed="rId2"/>
          <a:srcRect l="5856" t="0" r="0" b="30675"/>
          <a:stretch/>
        </p:blipFill>
        <p:spPr>
          <a:xfrm>
            <a:off x="457200" y="4648320"/>
            <a:ext cx="2448000" cy="1981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2005111322138"/>
          <p:cNvPicPr/>
          <p:nvPr/>
        </p:nvPicPr>
        <p:blipFill>
          <a:blip r:embed="rId3"/>
          <a:srcRect l="11670" t="0" r="0" b="13651"/>
          <a:stretch/>
        </p:blipFill>
        <p:spPr>
          <a:xfrm>
            <a:off x="4800600" y="380880"/>
            <a:ext cx="4038480" cy="2590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thumbnail"/>
          <p:cNvPicPr/>
          <p:nvPr/>
        </p:nvPicPr>
        <p:blipFill>
          <a:blip r:embed="rId4"/>
          <a:stretch/>
        </p:blipFill>
        <p:spPr>
          <a:xfrm>
            <a:off x="5334120" y="3733920"/>
            <a:ext cx="2419200" cy="28573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3"/>
          <p:cNvSpPr/>
          <p:nvPr/>
        </p:nvSpPr>
        <p:spPr>
          <a:xfrm>
            <a:off x="3048120" y="56386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оваскуларни глау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8153280" y="41148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502920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ланом дуж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нгенитални галук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3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Јавља се код деце до 3 г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аје услед наслеђене аномалије у развоју елемената коморног уг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к И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ћан булбус (hidroftalmus, buftalmus, megalocorn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thumbnail"/>
          <p:cNvPicPr/>
          <p:nvPr/>
        </p:nvPicPr>
        <p:blipFill>
          <a:blip r:embed="rId1"/>
          <a:srcRect l="0" t="8664" r="0" b="0"/>
          <a:stretch/>
        </p:blipFill>
        <p:spPr>
          <a:xfrm>
            <a:off x="5867280" y="1905120"/>
            <a:ext cx="285768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тко обољење 1:10 000 новорођенч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шће код мушке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ично оба ока са неједнаком клиничком сл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пифора, фотофобија, блефароспа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већана, замућена рожњ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486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ребан је преглед у општој анестез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микроскопија, тонометрија, гониоскопија, офталмоскопија П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јаметар рожњаче већи од 12mm, руптуре Descemetove мембране (Haabeove стриј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thumbnail"/>
          <p:cNvPicPr/>
          <p:nvPr/>
        </p:nvPicPr>
        <p:blipFill>
          <a:blip r:embed="rId1"/>
          <a:stretch/>
        </p:blipFill>
        <p:spPr>
          <a:xfrm>
            <a:off x="6095880" y="1752480"/>
            <a:ext cx="2590920" cy="17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ерапи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724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главном хир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о је рожњача провидна-goniot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о је рожњача замућ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eculot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одмаклим стадијумима trabeculecto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glaukom"/>
          <p:cNvPicPr/>
          <p:nvPr/>
        </p:nvPicPr>
        <p:blipFill>
          <a:blip r:embed="rId1"/>
          <a:stretch/>
        </p:blipFill>
        <p:spPr>
          <a:xfrm>
            <a:off x="4343400" y="3505320"/>
            <a:ext cx="480060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ок и прогноз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аговремена хир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а интервенција повољно утиче на ток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сније испољавање болест је такође знак мање изражених про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лечен завршава слепи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атогенез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већан отпор отицању оче водице је најчешће на нивоу коморног угла, али може бити и на нивоу пупи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чна водица се ствара секрецијом, ултрафилтрацијом и активним транспортом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цилијарним процесус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 утицајем је неуровегетативног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д већине је у распону од 10-21mmHg, са дневним варијацијама које нису веће од 5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идродинамика ока има велики утицај на хемодинамику ока, посебно очног жив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Хидродинамик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чна водица истиче трабекуларно већим делом и 15-30% увеосклералнимпу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тоје сложени хеоместатски механизми одржавања И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thumbnail"/>
          <p:cNvPicPr/>
          <p:nvPr/>
        </p:nvPicPr>
        <p:blipFill>
          <a:blip r:embed="rId1"/>
          <a:stretch/>
        </p:blipFill>
        <p:spPr>
          <a:xfrm>
            <a:off x="5562720" y="1447920"/>
            <a:ext cx="3162240" cy="1801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thumbnail"/>
          <p:cNvPicPr/>
          <p:nvPr/>
        </p:nvPicPr>
        <p:blipFill>
          <a:blip r:embed="rId2"/>
          <a:srcRect l="0" t="0" r="0" b="49345"/>
          <a:stretch/>
        </p:blipFill>
        <p:spPr>
          <a:xfrm>
            <a:off x="5791320" y="4114800"/>
            <a:ext cx="3047760" cy="21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Глаук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38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ља несклад између хидродинамике и хемодинамике 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падање аксона ганглијских ћел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да пропадне 300 000 влакана од укупно 1 200 000 настаје испад у видном пољ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штећење функције настаје знатно после морфолошке пром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6594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Miroslava_Breljak_19490405_9521"/>
          <p:cNvPicPr/>
          <p:nvPr/>
        </p:nvPicPr>
        <p:blipFill>
          <a:blip r:embed="rId2"/>
          <a:srcRect l="28000" t="25000" r="28000" b="25000"/>
          <a:stretch/>
        </p:blipFill>
        <p:spPr>
          <a:xfrm>
            <a:off x="4648320" y="1219320"/>
            <a:ext cx="4495680" cy="40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одела глауком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. Примарни глауко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арни глауком отвореног угла (glaucoma simpl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арни глауком са затвореним углом (glaucoma angul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.Секундарни глауком (glaucoma secundar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 Конгенитални глауком (glaucoma congenit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20:35:25Z</dcterms:created>
  <dc:creator>Sunshine</dc:creator>
  <dc:description/>
  <dc:language>en-US</dc:language>
  <cp:lastModifiedBy>Windows User</cp:lastModifiedBy>
  <dcterms:modified xsi:type="dcterms:W3CDTF">2020-09-26T16:06:09Z</dcterms:modified>
  <cp:revision>92</cp:revision>
  <dc:subject/>
  <dc:title>Glaukom</dc:title>
</cp:coreProperties>
</file>